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680-ABBA-4543-A84D-020A7340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BE0-65BA-4A97-A761-9B92506E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551-5D71-43D1-A850-3D96D16C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E91-F314-4899-9E81-5987CD9E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C1E-5D0E-4F44-B796-157200E2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DEE9-14E5-4E35-8BE6-249528F5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3A38-76D9-4D21-B377-F66CC94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0D45-49D0-431E-A876-1B0225A6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33DD-27A7-4978-987D-5CC8CB4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E5BA-CDB0-4248-907A-D91789D1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433-DFE0-4FFF-9D1B-87A1D77E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EE1-0B87-44A1-8D94-973D6CC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21C-EFCD-40FD-A615-6C7C3D12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2:55:37Z</dcterms:created>
  <dc:creator>backup</dc:creator>
  <dc:description/>
  <dc:language>en-US</dc:language>
  <cp:lastModifiedBy>backup</cp:lastModifiedBy>
  <dcterms:modified xsi:type="dcterms:W3CDTF">2009-03-01T12:56:57Z</dcterms:modified>
  <cp:revision>1</cp:revision>
  <dc:subject/>
  <dc:title>Slide 1</dc:title>
</cp:coreProperties>
</file>